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9C3E-7B44-4DFC-973B-E3A1FA349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352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EA51-0700-454D-9BF8-ABB20287C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D5AD-DA6F-4A1E-9B34-B97B8411C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92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92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CA74-9AF8-4E1B-AAAD-71637CCA1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FB7E7-90C7-4BEC-9732-A6F726794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8D096-8DF8-4C31-B0D7-E5CBCA527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AD88D-EB62-4F30-A3B1-89B007274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66767-144C-4921-8B42-7EDF4AD64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5BAEB-F108-4E75-86F0-A4D91A5FB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3059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AA1F1-AAB9-4CA8-9DB8-B274D637C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392A2-265D-4FA1-8F4B-270B8E55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EE7F-0674-4EB7-B9DA-DF795AC13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348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F9665-AB08-432C-AE27-BCD5F92F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B7A8A-1197-4426-8B9E-60285CE4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352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4D399-F404-4FEB-A395-47F133FAA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348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44D3D-F0DC-4F69-B54F-7D8CFEC42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592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428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592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428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84A16-2614-4515-A41E-57F9D231F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9EC8-9C5B-449F-8D25-E801E8A79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E37C-4875-4C31-938F-0D4892CE7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15DC-70A5-486D-9754-E316AAE16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3059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C201-213A-4A25-A793-7C84CA62D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35CD-6F3B-4319-85FA-32180DE9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3EC1-9B1E-4909-8527-42EB74F8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0296-34C2-4E07-B8DE-1C54DB36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17227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66520" y="6477120"/>
            <a:ext cx="1295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ccecff"/>
                </a:solidFill>
                <a:latin typeface="Times New Roman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cecff"/>
                </a:solidFill>
                <a:latin typeface="Times New Roman"/>
                <a:ea typeface="굴림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14440" y="6477120"/>
            <a:ext cx="2895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ccecff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cecff"/>
                </a:solidFill>
                <a:latin typeface="Times New Roman"/>
                <a:ea typeface="굴림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920" y="6477120"/>
            <a:ext cx="1295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ccecff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922EA-5B0E-44F6-90C0-DBB4A5F7F679}" type="slidenum">
              <a:rPr b="0" lang="ko-KR" sz="1000" spc="-1" strike="noStrike">
                <a:solidFill>
                  <a:srgbClr val="ccecff"/>
                </a:solidFill>
                <a:latin typeface="Times New Roman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17227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ccecff"/>
                </a:solidFill>
                <a:latin typeface="Times New Roman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cecff"/>
                </a:solidFill>
                <a:latin typeface="Times New Roman"/>
                <a:ea typeface="굴림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61960" y="640080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ccecff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cecff"/>
                </a:solidFill>
                <a:latin typeface="Times New Roman"/>
                <a:ea typeface="굴림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ccecff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9E850-1E08-4E5A-845D-8BEE2BA48FC5}" type="slidenum">
              <a:rPr b="0" lang="ko-KR" sz="1000" spc="-1" strike="noStrike">
                <a:solidFill>
                  <a:srgbClr val="ccecff"/>
                </a:solidFill>
                <a:latin typeface="Times New Roman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33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33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17227"/>
                </a:solidFill>
                <a:latin typeface="휴먼편지체"/>
                <a:ea typeface="휴먼편지체"/>
              </a:rPr>
              <a:t>REM (Rapid Eye Movement)</a:t>
            </a:r>
            <a:endParaRPr b="0" lang="en-US" sz="44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266720" y="3657240"/>
            <a:ext cx="4343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휴먼편지체"/>
                <a:ea typeface="휴먼편지체"/>
              </a:rPr>
              <a:t>Jonathan Kim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휴먼편지체"/>
                <a:ea typeface="휴먼편지체"/>
              </a:rPr>
              <a:t>Jin Kwon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휴먼편지체"/>
                <a:ea typeface="휴먼편지체"/>
              </a:rPr>
              <a:t>Jason Park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17227"/>
                </a:solidFill>
                <a:latin typeface="휴먼편지체"/>
                <a:ea typeface="휴먼편지체"/>
              </a:rPr>
              <a:t>What is REM???</a:t>
            </a: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993300"/>
              </a:buClr>
              <a:buFont typeface="휴먼편지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3300"/>
                </a:solidFill>
                <a:latin typeface="휴먼편지체"/>
                <a:ea typeface="휴먼편지체"/>
              </a:rPr>
              <a:t>REM is a normal stages of sleep by rapid movements of eyes</a:t>
            </a:r>
            <a:endParaRPr b="0" lang="en-US" sz="2600" spc="-1" strike="noStrike">
              <a:solidFill>
                <a:srgbClr val="9933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993300"/>
              </a:buClr>
              <a:buFont typeface="휴먼편지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3300"/>
                </a:solidFill>
                <a:latin typeface="휴먼편지체"/>
                <a:ea typeface="휴먼편지체"/>
              </a:rPr>
              <a:t>Sleep in adult humans typically occupies 20~25% of the whole sleeping time, about 90~120 minutes</a:t>
            </a:r>
            <a:endParaRPr b="0" lang="en-US" sz="2600" spc="-1" strike="noStrike">
              <a:solidFill>
                <a:srgbClr val="9933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993300"/>
              </a:buClr>
              <a:buFont typeface="휴먼편지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3300"/>
                </a:solidFill>
                <a:latin typeface="휴먼편지체"/>
                <a:ea typeface="휴먼편지체"/>
              </a:rPr>
              <a:t>People go into 4~5 periods of REM sleep</a:t>
            </a:r>
            <a:endParaRPr b="0" lang="en-US" sz="2600" spc="-1" strike="noStrike">
              <a:solidFill>
                <a:srgbClr val="9933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993300"/>
              </a:buClr>
              <a:buFont typeface="휴먼편지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3300"/>
                </a:solidFill>
                <a:latin typeface="휴먼편지체"/>
                <a:ea typeface="휴먼편지체"/>
              </a:rPr>
              <a:t>Most people tend to wake up, or go into a light sleep</a:t>
            </a:r>
            <a:endParaRPr b="0" lang="en-US" sz="2600" spc="-1" strike="noStrike">
              <a:solidFill>
                <a:srgbClr val="9933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993300"/>
              </a:buClr>
              <a:buFont typeface="휴먼편지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3300"/>
                </a:solidFill>
                <a:latin typeface="휴먼편지체"/>
                <a:ea typeface="휴먼편지체"/>
              </a:rPr>
              <a:t>Most babies go into REM 80% of the whole sleep</a:t>
            </a:r>
            <a:endParaRPr b="0" lang="en-US" sz="2600" spc="-1" strike="noStrike">
              <a:solidFill>
                <a:srgbClr val="9933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993300"/>
              </a:buClr>
              <a:buFont typeface="휴먼편지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3300"/>
                </a:solidFill>
                <a:latin typeface="휴먼편지체"/>
                <a:ea typeface="휴먼편지체"/>
              </a:rPr>
              <a:t>If people can recall their dreams vividly, then they have gone through REM.</a:t>
            </a:r>
            <a:endParaRPr b="0" lang="en-US" sz="26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17227"/>
                </a:solidFill>
                <a:latin typeface="휴먼편지체"/>
                <a:ea typeface="휴먼편지체"/>
              </a:rPr>
              <a:t>What is REM??? Cont.</a:t>
            </a: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휴먼편지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휴먼편지체"/>
                <a:ea typeface="휴먼편지체"/>
              </a:rPr>
              <a:t>In dreaming, our eyes move the same amount as we do when we are awake. 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휴먼편지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휴먼편지체"/>
                <a:ea typeface="휴먼편지체"/>
              </a:rPr>
              <a:t>When we are not dreaming, our eyes stay still…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휴먼편지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휴먼편지체"/>
                <a:ea typeface="휴먼편지체"/>
              </a:rPr>
              <a:t>Muscles are paralyzed in this stages.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휴먼편지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휴먼편지체"/>
                <a:ea typeface="휴먼편지체"/>
              </a:rPr>
              <a:t>REM occur every 90 minutes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휴먼편지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휴먼편지체"/>
                <a:ea typeface="휴먼편지체"/>
              </a:rPr>
              <a:t>The brain has increased blood flow and uses more oxygen during REM sleep. 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휴먼편지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휴먼편지체"/>
                <a:ea typeface="휴먼편지체"/>
              </a:rPr>
              <a:t>characterized by faster breathing and heart rate than other stages of sleep. 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17227"/>
                </a:solidFill>
                <a:latin typeface="휴먼편지체"/>
                <a:ea typeface="휴먼편지체"/>
              </a:rPr>
              <a:t>Why do we have REM?</a:t>
            </a: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00"/>
              </a:buClr>
              <a:buFont typeface="휴먼편지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휴먼편지체"/>
                <a:ea typeface="휴먼편지체"/>
              </a:rPr>
              <a:t>REM serves to rest the whole body, including the brain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00"/>
              </a:buClr>
              <a:buFont typeface="휴먼편지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휴먼편지체"/>
                <a:ea typeface="휴먼편지체"/>
              </a:rPr>
              <a:t>Saves memory (Good and Bad) and gets rid of excessive memory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00"/>
              </a:buClr>
              <a:buFont typeface="휴먼편지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휴먼편지체"/>
                <a:ea typeface="휴먼편지체"/>
              </a:rPr>
              <a:t>The smarter you are, the more REM you have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00"/>
              </a:buClr>
              <a:buFont typeface="휴먼편지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휴먼편지체"/>
                <a:ea typeface="휴먼편지체"/>
              </a:rPr>
              <a:t>Depressed people go to REM faster and stay in the stages longer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00:42:08Z</dcterms:created>
  <dc:creator>Jonathan Kim</dc:creator>
  <dc:description/>
  <cp:keywords/>
  <dc:language>en-US</dc:language>
  <cp:lastModifiedBy>Jonathan Kim</cp:lastModifiedBy>
  <dcterms:modified xsi:type="dcterms:W3CDTF">2008-10-07T01:02:34Z</dcterms:modified>
  <cp:revision>2</cp:revision>
  <dc:subject/>
  <dc:title>REM (Rapid Eye Movement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531042</vt:lpwstr>
  </property>
</Properties>
</file>